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B8DC-D854-4A7C-BDE2-9434B03341EC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BF63-6E16-4D32-85AD-20377F4223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F7EC-1684-42A4-A4BE-EC08CC8E4C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san took the comprehensive approach one stage further by adopting the idea of pathways/transition out of fragility. This is part of the "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ew Deal for engagement in fragile stat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" which is one of the commitments made in Busan and endorsed by the E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ew Deal aims at setting up new priorities for engagement in fragile situations (PSGs), new ways of working (one vision/one plan, based on a transparent fragility assessment, using transition compacts etc) and a new set of commitments from both sides (transparency, risk sharing, use of country systems, strengthening of capacities, timely and predictable aid…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69920" indent="-16992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Already in 2007 Council Conclusions on the Development – security nex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CA goes beyond the 3 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flict Prevention 2001 Programme &amp;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n Security Strategy 2003 -200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ropean Consensus on development 200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curity Sector Reform (SSR) and DDR in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xus between Security and development 2007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on on Fragility 200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 consensus on Humanitarian Aid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C 2011 conclusions on Conflict Pre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genda for Change 201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ciations on Transition 2012, resilience 2013 and comprehensive approach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8441F0B-6A93-4C10-B525-05A19598F5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1FE2-F086-418A-8436-5583AE3519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0038-19C8-4887-990E-85095A99DD5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0841-09D0-463A-959F-320266F924A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E68C-DABF-405B-A507-339E806897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39FE-D4E0-4D8D-9683-3FA426EB97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Date Placeholder 3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1032-4039-4E4D-8B30-CC52BAA8D7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OECD:  2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011 Factsheet on Resource Flows in Fragile States – OECD/DA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DEVCO declared a crisis situation (use of flexible proced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ld Bank 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2012 World Development Indicato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5366-AFEA-4ABB-8F8C-FD81E8281B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DF3D-DA08-4B20-B599-1EB3EC0B2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951D-24FA-4CDB-9D2A-F02012AB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A53A-2984-42B4-A0DD-565A36C35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EA2C-4017-4339-80DC-ADF5FF290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CBE7-E65A-428D-87AA-DA834FC62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EC9C-D469-43A3-BD3D-596D5484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A262-4D1F-427C-B725-1D71B702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9594-A1DC-41A0-9D6B-BEDAA4C2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38FA6-E78A-452A-ACC7-E70138469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8200-4BF4-46D9-861E-6904B46F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5195-22B5-414D-91E9-804B8405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817F-4298-4F4B-A332-43089989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B88C-0D9B-476D-9601-D0F9A69F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CE71-33C1-4B10-9DE1-1515DB80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0AC9-01BE-4925-A089-380E74831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F55A-BB23-4C75-9E2C-853A1F930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25DC-890A-4878-9403-F03C07E16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63CA-AE70-44C3-B953-22842773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95E4-94AD-4E73-90B5-3A7677A5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2A74-9E1A-4157-84D2-4D78946D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73D0-E878-466B-8F04-4E724B42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C8E1-C445-4451-872B-C8315A32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468D-42EE-476D-956D-7E84A277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8481-B2E2-40A9-AEEC-FEE783F3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38080" indent="-38088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81160" indent="-26676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752480" indent="-380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209680" indent="-3808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209680" indent="-3808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209680" indent="-3808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18D7-7285-4FFE-A934-B39659D91F5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838080" indent="-38088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81160" indent="-26676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752480" indent="-380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209680" indent="-3808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209680" indent="-3808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209680" indent="-3808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DB39-5E50-4C64-925C-02BAB49861F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2349360"/>
            <a:ext cx="8497800" cy="79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U</a:t>
            </a:r>
            <a:br>
              <a:rPr sz="2800"/>
            </a:b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flict Fragility and Development </a:t>
            </a:r>
            <a:r>
              <a:rPr b="1" lang="en-GB" sz="28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11280" y="3716280"/>
            <a:ext cx="8532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eter MAHER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ragility and Crisis Management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rectorate General Development and Cooperation – EuropeAid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uropean Commission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468360" y="1773360"/>
          <a:ext cx="8362800" cy="4897440"/>
        </p:xfrm>
        <a:graphic>
          <a:graphicData uri="http://schemas.openxmlformats.org/drawingml/2006/table">
            <a:tbl>
              <a:tblPr/>
              <a:tblGrid>
                <a:gridCol w="2666880"/>
                <a:gridCol w="2568600"/>
                <a:gridCol w="3127320"/>
              </a:tblGrid>
              <a:tr h="112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c4b6a"/>
                          </a:solidFill>
                          <a:latin typeface="Times New Roman"/>
                          <a:ea typeface="Times New Roman"/>
                        </a:rPr>
                        <a:t>PSG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c4b6a"/>
                          </a:solidFill>
                          <a:latin typeface="Times New Roman"/>
                          <a:ea typeface="Times New Roman"/>
                        </a:rPr>
                        <a:t>Peacebuilding and Statebuilding Goal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896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7a5d00"/>
                          </a:solidFill>
                          <a:latin typeface="Times New Roman"/>
                          <a:ea typeface="Times New Roman"/>
                        </a:rPr>
                        <a:t>FOCUS 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7a5d00"/>
                          </a:solidFill>
                          <a:latin typeface="Times New Roman"/>
                          <a:ea typeface="Times New Roman"/>
                        </a:rPr>
                        <a:t>terms of engagement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41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13582c"/>
                          </a:solidFill>
                          <a:latin typeface="Times New Roman"/>
                          <a:ea typeface="Times New Roman"/>
                        </a:rPr>
                        <a:t>TRUST 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13582c"/>
                          </a:solidFill>
                          <a:latin typeface="Times New Roman"/>
                          <a:ea typeface="Times New Roman"/>
                        </a:rPr>
                        <a:t>commitments for results</a:t>
                      </a:r>
                      <a:endParaRPr b="0" lang="en-US" sz="16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77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Legitimate politics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4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f5494"/>
                          </a:solidFill>
                          <a:latin typeface="Times New Roman"/>
                          <a:ea typeface="Times New Roman"/>
                        </a:rPr>
                        <a:t>Foster inclusive settlements and conflict resolution</a:t>
                      </a:r>
                      <a:endParaRPr b="0" lang="en-US" sz="14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Security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4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f5494"/>
                          </a:solidFill>
                          <a:latin typeface="Times New Roman"/>
                          <a:ea typeface="Times New Roman"/>
                        </a:rPr>
                        <a:t>Establish and strengthen people’s security </a:t>
                      </a:r>
                      <a:endParaRPr b="0" lang="en-US" sz="14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Justice</a:t>
                      </a:r>
                      <a:r>
                        <a:rPr b="0" lang="en-US" sz="1400" spc="-1" strike="noStrike">
                          <a:solidFill>
                            <a:srgbClr val="0f5494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f5494"/>
                          </a:solidFill>
                          <a:latin typeface="Times New Roman"/>
                          <a:ea typeface="Times New Roman"/>
                        </a:rPr>
                        <a:t>Address injustices and increase people’s access to justice</a:t>
                      </a:r>
                      <a:endParaRPr b="0" lang="en-US" sz="14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Economic foundations</a:t>
                      </a:r>
                      <a:r>
                        <a:rPr b="1" lang="en-US" sz="1400" spc="-1" strike="noStrike">
                          <a:solidFill>
                            <a:srgbClr val="0f5494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f5494"/>
                          </a:solidFill>
                          <a:latin typeface="Times New Roman"/>
                          <a:ea typeface="Times New Roman"/>
                        </a:rPr>
                        <a:t>Generate employment and improve livelihoods</a:t>
                      </a:r>
                      <a:endParaRPr b="0" lang="en-US" sz="14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Revenues and services </a:t>
                      </a:r>
                      <a:r>
                        <a:rPr b="0" lang="en-US" sz="1400" spc="-1" strike="noStrike">
                          <a:solidFill>
                            <a:srgbClr val="0f5494"/>
                          </a:solidFill>
                          <a:latin typeface="Times New Roman"/>
                          <a:ea typeface="Times New Roman"/>
                        </a:rPr>
                        <a:t>Manage revenues and build capacity for accountable and fair service delivery </a:t>
                      </a:r>
                      <a:endParaRPr b="0" lang="en-US" sz="14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be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gility assessment</a:t>
                      </a:r>
                      <a:endParaRPr b="0" lang="en-US" sz="14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 vision, one plan</a:t>
                      </a:r>
                      <a:endParaRPr b="0" lang="en-US" sz="14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ntry compact</a:t>
                      </a:r>
                      <a:endParaRPr b="0" lang="en-US" sz="14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the PSGs to monitor</a:t>
                      </a:r>
                      <a:endParaRPr b="0" lang="en-US" sz="14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pport political Dialogue</a:t>
                      </a:r>
                      <a:endParaRPr b="0" lang="en-US" sz="14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7a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sparency</a:t>
                      </a:r>
                      <a:endParaRPr b="0" lang="en-US" sz="14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k sharing &amp; risk management</a:t>
                      </a:r>
                      <a:endParaRPr b="0" lang="en-US" sz="14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&amp; strengthen country systems</a:t>
                      </a:r>
                      <a:endParaRPr b="0" lang="en-US" sz="14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engthen capacities</a:t>
                      </a:r>
                      <a:endParaRPr b="0" lang="en-US" sz="14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ely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d predictable aid</a:t>
                      </a:r>
                      <a:endParaRPr b="0" lang="en-US" sz="14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f5494"/>
                </a:solidFill>
                <a:latin typeface="Verdana"/>
              </a:rPr>
              <a:t>Peace &amp; State-building Framework 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Appropriate mix and articulation of external</a:t>
            </a:r>
            <a:br>
              <a:rPr sz="2400"/>
            </a:br>
            <a:r>
              <a:rPr b="1" lang="en-US" sz="24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action instruments throughout a crisis</a:t>
            </a: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2d5ec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Development cooperation is present throughout the full cycle of a crisis – before, during and after a natural disaster, violent conflict, societal change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2d5ec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Joint assessment , analysis and review of  intervention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2d5ec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Joined-up work on the basis of a common vision / strategy, shared analysis, information exchange and communicat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2d5ec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Coordination with Member States and other external actors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447840" indent="-447840">
              <a:lnSpc>
                <a:spcPct val="100000"/>
              </a:lnSpc>
              <a:spcBef>
                <a:spcPts val="601"/>
              </a:spcBef>
              <a:buClr>
                <a:srgbClr val="2d5ec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Content Placeholder 3" descr=""/>
          <p:cNvPicPr/>
          <p:nvPr/>
        </p:nvPicPr>
        <p:blipFill>
          <a:blip r:embed="rId1"/>
          <a:stretch/>
        </p:blipFill>
        <p:spPr>
          <a:xfrm>
            <a:off x="353880" y="1195560"/>
            <a:ext cx="8577360" cy="55465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4"/>
          <p:cNvSpPr/>
          <p:nvPr/>
        </p:nvSpPr>
        <p:spPr>
          <a:xfrm>
            <a:off x="4067280" y="169560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Verdana"/>
              </a:rPr>
              <a:t>WHEN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6132600" y="28130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Verdana"/>
              </a:rPr>
              <a:t>WHAT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TextBox 7"/>
          <p:cNvSpPr/>
          <p:nvPr/>
        </p:nvSpPr>
        <p:spPr>
          <a:xfrm>
            <a:off x="4211640" y="6399360"/>
            <a:ext cx="108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Verdana"/>
              </a:rPr>
              <a:t>WHERE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1619280" y="306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200" spc="-1" strike="noStrike">
                <a:solidFill>
                  <a:srgbClr val="000000"/>
                </a:solidFill>
                <a:latin typeface="Verdana"/>
              </a:rPr>
              <a:t>WHO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18960" y="4073400"/>
            <a:ext cx="86043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EU's 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Comprehensive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Approach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6840" y="1557000"/>
            <a:ext cx="84358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EuropeAid (DG DEVCO)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181080" indent="-1810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1. </a:t>
            </a:r>
            <a:r>
              <a:rPr b="1" lang="en-GB" sz="28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Two aid / development cooperation  </a:t>
            </a:r>
            <a:r>
              <a:rPr b="1" lang="en-GB" sz="28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instruments (EDF &amp; DCI)  &amp; EIDHR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lvl="2" marL="905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 ENI – DG NEAR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181080" indent="-1810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2. </a:t>
            </a:r>
            <a:r>
              <a:rPr b="1" lang="en-GB" sz="28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Engaging in reconstruction of fragile and </a:t>
            </a:r>
            <a:r>
              <a:rPr b="1" lang="en-GB" sz="28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conflict affected states 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  <a:p>
            <a:pPr marL="181080" indent="-181080">
              <a:lnSpc>
                <a:spcPct val="100000"/>
              </a:lnSpc>
              <a:spcBef>
                <a:spcPts val="1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3. </a:t>
            </a:r>
            <a:r>
              <a:rPr b="1" lang="en-GB" sz="28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Contributes to EU Comprehensive Action in the </a:t>
            </a:r>
            <a:r>
              <a:rPr b="1" lang="en-GB" sz="28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aftermath of a crisis</a:t>
            </a:r>
            <a:endParaRPr b="0" i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2ABB-B7FC-46C3-B1F8-C2E8FB3DEBC3}" type="slidenum">
              <a:rPr b="1" lang="en-GB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971640" y="1655640"/>
            <a:ext cx="7481520" cy="5202360"/>
            <a:chOff x="971640" y="1655640"/>
            <a:chExt cx="7481520" cy="5202360"/>
          </a:xfrm>
        </p:grpSpPr>
        <p:grpSp>
          <p:nvGrpSpPr>
            <p:cNvPr id="100" name="Group 4"/>
            <p:cNvGrpSpPr/>
            <p:nvPr/>
          </p:nvGrpSpPr>
          <p:grpSpPr>
            <a:xfrm>
              <a:off x="1446840" y="1655640"/>
              <a:ext cx="7006320" cy="5202360"/>
              <a:chOff x="1446840" y="1655640"/>
              <a:chExt cx="7006320" cy="5202360"/>
            </a:xfrm>
          </p:grpSpPr>
          <p:pic>
            <p:nvPicPr>
              <p:cNvPr id="101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1446840" y="1655640"/>
                <a:ext cx="7006320" cy="472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705680" y="6496200"/>
                <a:ext cx="4545360" cy="361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3" name="Picture 7" descr=""/>
            <p:cNvPicPr/>
            <p:nvPr/>
          </p:nvPicPr>
          <p:blipFill>
            <a:blip r:embed="rId3"/>
            <a:stretch/>
          </p:blipFill>
          <p:spPr>
            <a:xfrm>
              <a:off x="971640" y="1655640"/>
              <a:ext cx="7427520" cy="4743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" name="Group 8"/>
          <p:cNvGrpSpPr/>
          <p:nvPr/>
        </p:nvGrpSpPr>
        <p:grpSpPr>
          <a:xfrm>
            <a:off x="611280" y="1628640"/>
            <a:ext cx="7667640" cy="5229000"/>
            <a:chOff x="611280" y="1628640"/>
            <a:chExt cx="7667640" cy="5229000"/>
          </a:xfrm>
        </p:grpSpPr>
        <p:pic>
          <p:nvPicPr>
            <p:cNvPr id="105" name="Picture 9" descr=""/>
            <p:cNvPicPr/>
            <p:nvPr/>
          </p:nvPicPr>
          <p:blipFill>
            <a:blip r:embed="rId4"/>
            <a:stretch/>
          </p:blipFill>
          <p:spPr>
            <a:xfrm>
              <a:off x="611280" y="1628640"/>
              <a:ext cx="7667640" cy="459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10" descr=""/>
            <p:cNvPicPr/>
            <p:nvPr/>
          </p:nvPicPr>
          <p:blipFill>
            <a:blip r:embed="rId5"/>
            <a:stretch/>
          </p:blipFill>
          <p:spPr>
            <a:xfrm>
              <a:off x="1744920" y="6301440"/>
              <a:ext cx="4761000" cy="556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" name="Group 11"/>
          <p:cNvGrpSpPr/>
          <p:nvPr/>
        </p:nvGrpSpPr>
        <p:grpSpPr>
          <a:xfrm>
            <a:off x="684360" y="1700280"/>
            <a:ext cx="7524720" cy="5157360"/>
            <a:chOff x="684360" y="1700280"/>
            <a:chExt cx="7524720" cy="5157360"/>
          </a:xfrm>
        </p:grpSpPr>
        <p:pic>
          <p:nvPicPr>
            <p:cNvPr id="108" name="Picture 12" descr=""/>
            <p:cNvPicPr/>
            <p:nvPr/>
          </p:nvPicPr>
          <p:blipFill>
            <a:blip r:embed="rId6"/>
            <a:stretch/>
          </p:blipFill>
          <p:spPr>
            <a:xfrm>
              <a:off x="684360" y="1700280"/>
              <a:ext cx="7524720" cy="432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13" descr=""/>
            <p:cNvPicPr/>
            <p:nvPr/>
          </p:nvPicPr>
          <p:blipFill>
            <a:blip r:embed="rId7"/>
            <a:stretch/>
          </p:blipFill>
          <p:spPr>
            <a:xfrm>
              <a:off x="1637280" y="6007320"/>
              <a:ext cx="4767480" cy="85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Rectangle 14"/>
          <p:cNvSpPr/>
          <p:nvPr/>
        </p:nvSpPr>
        <p:spPr>
          <a:xfrm>
            <a:off x="-252360" y="1052640"/>
            <a:ext cx="939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Geographical Coverag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8370000" y="1557360"/>
            <a:ext cx="362880" cy="45370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marL="32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f5494"/>
                </a:solidFill>
                <a:latin typeface="Verdana"/>
                <a:ea typeface="ＭＳ Ｐゴシック"/>
              </a:rPr>
              <a:t>THEMATIC PROGRAMMES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AFAF-16CF-46A2-A39A-D9E9C9AD292F}" type="slidenum"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611280" y="1268280"/>
            <a:ext cx="813744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What</a:t>
            </a:r>
            <a:r>
              <a:rPr b="1" lang="en-GB" sz="31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do</a:t>
            </a:r>
            <a:r>
              <a:rPr b="1" lang="en-GB" sz="31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we</a:t>
            </a:r>
            <a:r>
              <a:rPr b="1" lang="en-GB" sz="31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mean</a:t>
            </a:r>
            <a:r>
              <a:rPr b="1" lang="en-GB" sz="31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by</a:t>
            </a:r>
            <a:r>
              <a:rPr b="1" lang="en-GB" sz="31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lang="ja-JP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“</a:t>
            </a:r>
            <a:r>
              <a:rPr b="1" lang="en-GB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crisis</a:t>
            </a:r>
            <a:r>
              <a:rPr b="1" lang="ja-JP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”</a:t>
            </a:r>
            <a:r>
              <a:rPr b="1" lang="en-GB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?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304920" y="2060640"/>
            <a:ext cx="8351640" cy="39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Stipulation of a crisis situation not based on cause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man-made disasters - armed conflict, revolution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      </a:t>
            </a:r>
            <a:r>
              <a:rPr b="1" lang="en-GB" sz="24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or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natural disasters - floods, drought, tsunami, earthquake… or other circumstances, 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but on the consequences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has no limited duration (as long as development policies cannot resume normally).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Can be sub-national</a:t>
            </a: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23B6-C917-4940-9548-F995818E7819}" type="slidenum"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116" name="Elbow Connector 2"/>
          <p:cNvCxnSpPr/>
          <p:nvPr/>
        </p:nvCxnSpPr>
        <p:spPr>
          <a:xfrm>
            <a:off x="8244000" y="1506600"/>
            <a:ext cx="915120" cy="915120"/>
          </a:xfrm>
          <a:prstGeom prst="bentConnector3">
            <a:avLst>
              <a:gd name="adj1" fmla="val 49980"/>
            </a:avLst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U development aid d</a:t>
            </a:r>
            <a:r>
              <a:rPr b="1" lang="en-GB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sbursements to fragile and crisis countries versos  other partner countries (2011 in € billions)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8" name="Content Placeholder 3" descr=""/>
          <p:cNvPicPr/>
          <p:nvPr/>
        </p:nvPicPr>
        <p:blipFill>
          <a:blip r:embed="rId1"/>
          <a:stretch/>
        </p:blipFill>
        <p:spPr>
          <a:xfrm>
            <a:off x="417600" y="2370240"/>
            <a:ext cx="833112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Content Placeholder 4" descr=""/>
          <p:cNvPicPr/>
          <p:nvPr/>
        </p:nvPicPr>
        <p:blipFill>
          <a:blip r:embed="rId1"/>
          <a:stretch/>
        </p:blipFill>
        <p:spPr>
          <a:xfrm>
            <a:off x="417600" y="2441520"/>
            <a:ext cx="8331120" cy="3630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1800" spc="-1" strike="noStrike">
                <a:solidFill>
                  <a:srgbClr val="bf4b36"/>
                </a:solidFill>
                <a:latin typeface="Verdana"/>
              </a:rPr>
              <a:t>Disbursements to fragile and crisis countries vs other partner countries (2010-11)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Right Arrow 11"/>
          <p:cNvSpPr/>
          <p:nvPr/>
        </p:nvSpPr>
        <p:spPr>
          <a:xfrm rot="20952600">
            <a:off x="3060360" y="4289400"/>
            <a:ext cx="1222200" cy="119160"/>
          </a:xfrm>
          <a:prstGeom prst="rightArrow">
            <a:avLst>
              <a:gd name="adj1" fmla="val 50000"/>
              <a:gd name="adj2" fmla="val 49907"/>
            </a:avLst>
          </a:prstGeom>
          <a:solidFill>
            <a:srgbClr val="3194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EDF 10 initial allocation vs. EDF 11 allocation</a:t>
            </a:r>
            <a:br>
              <a:rPr sz="2000"/>
            </a:br>
            <a:r>
              <a:rPr b="1" lang="en-GB" sz="1800" spc="-1" strike="noStrike">
                <a:solidFill>
                  <a:srgbClr val="bf4b36"/>
                </a:solidFill>
                <a:latin typeface="Verdana"/>
              </a:rPr>
              <a:t>Share of fragile states in the allocation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23" name="Content Placeholder 3" descr=""/>
          <p:cNvPicPr/>
          <p:nvPr/>
        </p:nvPicPr>
        <p:blipFill>
          <a:blip r:embed="rId1"/>
          <a:stretch/>
        </p:blipFill>
        <p:spPr>
          <a:xfrm>
            <a:off x="419040" y="2631960"/>
            <a:ext cx="4559400" cy="3702240"/>
          </a:xfrm>
          <a:prstGeom prst="rect">
            <a:avLst/>
          </a:prstGeom>
          <a:ln w="0">
            <a:noFill/>
          </a:ln>
        </p:spPr>
      </p:pic>
      <p:sp>
        <p:nvSpPr>
          <p:cNvPr id="124" name="TextBox 2"/>
          <p:cNvSpPr/>
          <p:nvPr/>
        </p:nvSpPr>
        <p:spPr>
          <a:xfrm>
            <a:off x="1114560" y="3998880"/>
            <a:ext cx="158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&lt; €15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fr-BE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l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25" name="Content Placeholder 3" descr=""/>
          <p:cNvPicPr/>
          <p:nvPr/>
        </p:nvPicPr>
        <p:blipFill>
          <a:blip r:embed="rId2"/>
          <a:stretch/>
        </p:blipFill>
        <p:spPr>
          <a:xfrm>
            <a:off x="5003640" y="2440080"/>
            <a:ext cx="3967200" cy="31986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6"/>
          <p:cNvSpPr/>
          <p:nvPr/>
        </p:nvSpPr>
        <p:spPr>
          <a:xfrm>
            <a:off x="655920" y="2349360"/>
            <a:ext cx="332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F 10  initial allocation – estimate 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5871600" y="2316240"/>
            <a:ext cx="21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F 11 final allocation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660240" y="5950080"/>
            <a:ext cx="764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hare of MIPs for fragile states increased to 68%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B5AF-E322-4B86-B3F7-D514A3F7806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DCI 2007-2013 &amp; DCI 2014-2020</a:t>
            </a:r>
            <a:br>
              <a:rPr sz="2800"/>
            </a:b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MIPs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31" name="Content Placeholder 3" descr=""/>
          <p:cNvPicPr/>
          <p:nvPr/>
        </p:nvPicPr>
        <p:blipFill>
          <a:blip r:embed="rId1"/>
          <a:stretch/>
        </p:blipFill>
        <p:spPr>
          <a:xfrm>
            <a:off x="225360" y="2225520"/>
            <a:ext cx="8958240" cy="4567320"/>
          </a:xfrm>
          <a:prstGeom prst="rect">
            <a:avLst/>
          </a:prstGeom>
          <a:ln w="0">
            <a:noFill/>
          </a:ln>
        </p:spPr>
      </p:pic>
      <p:sp>
        <p:nvSpPr>
          <p:cNvPr id="13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0396-67F4-4B7E-8631-01331E902AF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6678720" y="2349360"/>
            <a:ext cx="20142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000"/>
                </a:solidFill>
                <a:latin typeface="Verdana"/>
              </a:rPr>
              <a:t>DCI 2007-2013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DCI 2014-2020 </a:t>
            </a:r>
            <a:endParaRPr b="0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TEBUILDING </a:t>
            </a:r>
            <a:br>
              <a:rPr sz="2000"/>
            </a:br>
            <a:r>
              <a:rPr b="1" lang="en-GB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S CENTRAL TO RECONSTRUCTION AFTER A CRISIS OR CONFLICT</a:t>
            </a:r>
            <a:br>
              <a:rPr sz="3600"/>
            </a:b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2276640"/>
            <a:ext cx="896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Fragile states (OECD, 2012)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9fb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weak capacity to carry out basic governance functions, lacks  ability to develop mutually constructive relations with society.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More resilient states: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9fb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capacity and legitimacy of governing a population and its territory.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009fb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can manage / adapt to changing social needs and expectations , shifts in elite and other political changes </a:t>
            </a: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Fragility and resilience should be seen as shifting points along a spectrum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“</a:t>
            </a:r>
            <a:r>
              <a:rPr b="1" lang="en-GB" sz="18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Peace-building dilemma; non-linearity of state-building</a:t>
            </a:r>
            <a:r>
              <a:rPr b="1" lang="ja-JP" sz="1800" spc="-1" strike="noStrike">
                <a:solidFill>
                  <a:srgbClr val="0f5494"/>
                </a:solidFill>
                <a:latin typeface="Times New Roman"/>
                <a:ea typeface="Times New Roman"/>
              </a:rPr>
              <a:t>”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Ralf Otto</cp:lastModifiedBy>
  <cp:lastPrinted>2012-06-21T15:37:13Z</cp:lastPrinted>
  <dcterms:modified xsi:type="dcterms:W3CDTF">2015-05-20T08:40:36Z</dcterms:modified>
  <cp:revision>242</cp:revision>
  <dc:subject/>
  <dc:title>Slide 1</dc:title>
</cp:coreProperties>
</file>